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979E5-BA20-42AB-ABA8-5CEF7137E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A65F9-3BA6-4B67-B5C2-3D445F277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B009E-A973-47D0-B1E4-E59B4E713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6759E-25DE-4793-B6CA-7ACEA7450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65627-B0FA-4F20-B329-18AA94EA5D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F8F43-FDF5-43F4-94B5-B30DE74EAB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BFFAF-E6E6-4D7C-8A6D-5E4ACA6E95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EAB9E-811E-427A-A4E2-76B3F42D41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84C22-168C-4BC4-8F7A-2682081230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A5B8C-0F0D-4872-A30C-B130072F7D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39BD1-A0E8-403C-B154-076F55992A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E1354-F6C4-4BD5-8AF8-1D96DE6C6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4A400-8A40-4934-AFBC-E3937CEE62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E3A56-04BA-4F7E-8498-FE200AE794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70861-F18C-49D8-97FD-83B7DC416F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5C51D-60A8-4F84-B583-9C55CB7E06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2E4E1-6C54-472C-A8B6-742F5FCD79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B4A12-D46C-47E1-BBBD-9BCF022FF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D7EE5-2096-434D-953B-5147FFC6B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148A1-BF3F-4B0F-B73F-AAA021B2C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E25B6-0A8D-4324-BAC4-11406924C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87D90-07D5-499D-9270-D56736BC4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F2358-9A08-4E2C-A548-12B73AD61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496C9-4A41-49AB-958D-D1B01943B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6760"/>
            <a:ext cx="213372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3CBE-DBAF-4031-9A2B-5063E454B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22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990360" cy="42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533160" y="61722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009920" y="6243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5B3F-A49F-4BF4-BC87-BF2D8FF7753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SC Utilization Report</a:t>
            </a:r>
            <a:br>
              <a:rPr sz="5000"/>
            </a:b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Q1 - 2006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19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Arial Narrow"/>
              </a:rPr>
              <a:t>Duration Curves: N_H</a:t>
            </a:r>
            <a:endParaRPr b="1" lang="en-US" sz="31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09680" y="3581280"/>
            <a:ext cx="4343400" cy="2667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48320" y="838080"/>
            <a:ext cx="4267080" cy="2667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28600" y="838080"/>
            <a:ext cx="4343400" cy="26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9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7793E-0726-4F4D-99A4-51307A86FE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Arial Narrow"/>
              </a:rPr>
              <a:t>Duration Curves: S_H</a:t>
            </a:r>
            <a:endParaRPr b="1" lang="en-US" sz="31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4190760" cy="2743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426708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286000" y="3657600"/>
            <a:ext cx="4648320" cy="266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9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3EFB1-ABB9-4C87-B998-A75E4BE437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Arial Narrow"/>
              </a:rPr>
              <a:t>Duration Curves: S_N</a:t>
            </a:r>
            <a:endParaRPr b="1" lang="en-US" sz="31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4419360" cy="2666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4267080" cy="2666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28600" y="914400"/>
            <a:ext cx="4267080" cy="266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9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F2C40-BD81-4045-A0BB-6EF14FF43F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Arial Narrow"/>
              </a:rPr>
              <a:t>Duration Curves: N_W</a:t>
            </a:r>
            <a:endParaRPr b="1" lang="en-US" sz="31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96040" cy="2819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4343400" cy="2819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514600" y="3886200"/>
            <a:ext cx="4419720" cy="24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9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DE71A-777C-4E85-8E47-9FA4D6C721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Unused CSC capacity:</a:t>
            </a: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Jan – Mar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267080" cy="2514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0" y="1066680"/>
            <a:ext cx="4267080" cy="2514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28600" y="3733920"/>
            <a:ext cx="4267080" cy="2514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572000" y="3733920"/>
            <a:ext cx="4343400" cy="25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9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353F6-74AB-4EA4-ABA8-62CE76FF26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Costs of Over-constraining vs. Under-constraining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5334120"/>
            <a:ext cx="4191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ng all binding intervals where the actual CSC flow is less than 100% of CSC lim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y the difference between the actual flow and 100% of the limit, times the Shadow Pr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334120"/>
            <a:ext cx="43434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ng intervals where the actual flow is greater than the CSC lim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y the difference between the flow and the limit, times the average Shadow Pr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4343400" cy="4496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4648320" cy="449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9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38267-51B8-4D55-855B-A52D861143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Minutes Above Limit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60199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59436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4343400" cy="4648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24480" y="838080"/>
            <a:ext cx="439092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9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91F0B-3840-42EB-889E-54A6A2297C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Outline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nal congestion – costs and qua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e and binding interv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ual CSC flows vs lim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sts of over cons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9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72814-4F0C-4DFD-960A-E56B9AFE06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 Narrow"/>
              </a:rPr>
              <a:t>CSC Congestion Charges collected from QSEs</a:t>
            </a:r>
            <a:endParaRPr b="1" lang="en-US" sz="2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5105520"/>
          <a:ext cx="7728120" cy="1218960"/>
        </p:xfrm>
        <a:graphic>
          <a:graphicData uri="http://schemas.openxmlformats.org/drawingml/2006/table">
            <a:tbl>
              <a:tblPr/>
              <a:tblGrid>
                <a:gridCol w="1035000"/>
                <a:gridCol w="870120"/>
                <a:gridCol w="870120"/>
                <a:gridCol w="761760"/>
                <a:gridCol w="838440"/>
                <a:gridCol w="914400"/>
                <a:gridCol w="1143000"/>
                <a:gridCol w="1295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ill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5 – 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~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5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~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9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1A43C-D8C0-4F84-9800-96A9782C10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 Narrow"/>
              </a:rPr>
              <a:t>Number of Intervals Constraints were Binding</a:t>
            </a:r>
            <a:endParaRPr b="1" lang="en-US" sz="2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676520" y="5105520"/>
          <a:ext cx="5823000" cy="1212840"/>
        </p:xfrm>
        <a:graphic>
          <a:graphicData uri="http://schemas.openxmlformats.org/drawingml/2006/table">
            <a:tbl>
              <a:tblPr/>
              <a:tblGrid>
                <a:gridCol w="1044360"/>
                <a:gridCol w="781200"/>
                <a:gridCol w="780840"/>
                <a:gridCol w="825480"/>
                <a:gridCol w="989280"/>
                <a:gridCol w="742680"/>
                <a:gridCol w="659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– 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9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340BD-634A-49AF-B88B-89BB7AD248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Summary of Zonal Congestion Occurrences - Intervals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2280" y="1143000"/>
          <a:ext cx="8763120" cy="5076720"/>
        </p:xfrm>
        <a:graphic>
          <a:graphicData uri="http://schemas.openxmlformats.org/drawingml/2006/table">
            <a:tbl>
              <a:tblPr/>
              <a:tblGrid>
                <a:gridCol w="914400"/>
                <a:gridCol w="657360"/>
                <a:gridCol w="714240"/>
                <a:gridCol w="609840"/>
                <a:gridCol w="685800"/>
                <a:gridCol w="609480"/>
                <a:gridCol w="685800"/>
                <a:gridCol w="581040"/>
                <a:gridCol w="714240"/>
                <a:gridCol w="581040"/>
                <a:gridCol w="714600"/>
                <a:gridCol w="609480"/>
                <a:gridCol w="685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5 – 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5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1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9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0FD0B-5213-404A-BFAA-06965235D3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Summary of Zonal Congestion Occurrences - Days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8600" y="990720"/>
          <a:ext cx="8686800" cy="4952880"/>
        </p:xfrm>
        <a:graphic>
          <a:graphicData uri="http://schemas.openxmlformats.org/drawingml/2006/table">
            <a:tbl>
              <a:tblPr/>
              <a:tblGrid>
                <a:gridCol w="914400"/>
                <a:gridCol w="609480"/>
                <a:gridCol w="685800"/>
                <a:gridCol w="609840"/>
                <a:gridCol w="685800"/>
                <a:gridCol w="609480"/>
                <a:gridCol w="685800"/>
                <a:gridCol w="609480"/>
                <a:gridCol w="685800"/>
                <a:gridCol w="609840"/>
                <a:gridCol w="685800"/>
                <a:gridCol w="609480"/>
                <a:gridCol w="685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5 - 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5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9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5DDE1-AC1A-4912-9308-AA971844B9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S_H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Mar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9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98874-8B7F-4A64-957E-1086D7CED6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S_N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Mar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9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124B9-8C73-43B6-B5A9-509F8666F0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Arial Narrow"/>
              </a:rPr>
              <a:t>Duration Curves: E_N</a:t>
            </a:r>
            <a:endParaRPr b="1" lang="en-US" sz="31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90920" y="3886200"/>
            <a:ext cx="4267080" cy="243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4267080" cy="2743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52280" y="990720"/>
            <a:ext cx="426744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9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1BC70-390A-4E4D-A8E4-D802F01BC2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9:22:49Z</dcterms:created>
  <dc:creator>Beth Garza</dc:creator>
  <dc:description/>
  <dc:language>en-US</dc:language>
  <cp:lastModifiedBy>ercot/if</cp:lastModifiedBy>
  <dcterms:modified xsi:type="dcterms:W3CDTF">2006-04-17T20:20:05Z</dcterms:modified>
  <cp:revision>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